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7" name="PlaceHolder 2"/>
          <p:cNvSpPr>
            <a:spLocks noGrp="1"/>
          </p:cNvSpPr>
          <p:nvPr>
            <p:ph type="dt" idx="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0" name="PlaceHolder 5"/>
          <p:cNvSpPr>
            <a:spLocks noGrp="1"/>
          </p:cNvSpPr>
          <p:nvPr>
            <p:ph type="ftr" idx="1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1" name="PlaceHolder 6"/>
          <p:cNvSpPr>
            <a:spLocks noGrp="1"/>
          </p:cNvSpPr>
          <p:nvPr>
            <p:ph type="sldNum" idx="11"/>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951C4-595D-4EC2-990D-51D961F13B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827D2-0352-452B-912A-2C72BF16AD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BDBF9-3A71-487C-AAA0-5B1539A1E0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61189-A199-405B-B7B3-85E105E6F8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AC369-87D2-4E45-AE94-E1B679E48A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5BFBE-B191-41C9-ACC0-4659A2F00C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A2489-0FED-4407-BDD7-921447A90E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4C4BC-0F05-4FB2-AC5F-66FD8B06E3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E3C70-5506-4EAC-8778-2510C4C20C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F65F2-5F8A-4D23-921B-D1732EB35F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260F0-42B4-4D83-B0C7-B825690655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41E2C-8165-40E3-9488-2BED46DB40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08335-F6D6-4978-B89C-149F471DE0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A9E33-9366-4E21-B2E7-5F48253C52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4BA79-7ACA-44BC-928E-860D3D01B1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9154E-F297-4CA2-A56A-BC1900D492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1DBA8-6BC6-4623-BB6A-ACF7835757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F272254-6AA6-41B2-874F-15D6BA6CCD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6B27A9-E108-4628-917B-33ACF54E90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9934535-59EA-487E-93E3-3D9ED1683F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CF02C63-CC1E-41B2-A81A-4DB479DCA9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2CB6D8B-D4DB-4A38-ADFA-B8F5A472E3E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06AD813-2A43-491B-A171-6181FF5C3E3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F5894DC-FA69-4FC1-B954-9C369D5AD0B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6C5BD25-AC3A-4A86-AD9F-957898D15E3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178FA5B-4825-45EA-B0A0-C8436340B98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0BFEBC5-B3B7-4E48-BCC3-3341A67BB73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827C6F2-C0C3-4397-9AF8-328BD509AE7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2C96DA-5BE8-40F6-B2EB-3013032885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A34F7AC-557E-49F3-BB05-51FA10DD6B7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1F89CED-8938-4DD6-91BC-65B63BA536E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B464608-B71D-49F6-93FB-2BDC352707E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216E934-7FC3-4AE3-A15B-ECA9ABB27E9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FB0941C-1D97-4B8C-ADBD-7C5A2C35062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4C24AD4-00A8-498C-A9F9-D757AA7620A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097C897-D484-469D-9B5F-9B2A9F5B193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8DE33C3-8697-46C7-B59B-3FA2CA2645E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6B1A2C0-F586-4B6E-BBA4-BD3C886238F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4ABD365-EF32-44C6-9AAC-AFE7266DC47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7C2303-47C2-4F3C-8965-BF607DC186F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3C75A27-2A07-44E1-B3AB-B321AC0A726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5C7E9F5-B718-4A2A-98B4-0441D8D3BAE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5371518-EAC4-4897-A885-A0528B87421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077944E-7941-480A-B9ED-8393CE1FE64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9297925-7B72-49D0-B8F4-470859E8871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8C94BC0-0F09-4372-AA1D-FA0AA59EC83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E408595-58FE-4BCB-82A6-8684887CA0F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5E62A2-BA7E-4C83-801A-2A12BDF4D5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C06C39-AC7D-45EF-8B89-2DC551E409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18FAB2-701C-4A36-A2B8-6678D5C95C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2F1C99-EC99-4C6F-8662-CFC1176CA5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0E3F83-BE4E-48E8-ABEC-37BD4E5ACB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5E7CDB-5503-46C1-B89C-3EB0359502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58252-3CCE-4CE0-B330-54B4A5100D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1" name="PlaceHolder 2"/>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86BEC-2692-432D-9C2E-715D67C3DE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42" name=""/>
          <p:cNvGrpSpPr/>
          <p:nvPr/>
        </p:nvGrpSpPr>
        <p:grpSpPr>
          <a:xfrm>
            <a:off x="0" y="0"/>
            <a:ext cx="9144000" cy="546120"/>
            <a:chOff x="0" y="0"/>
            <a:chExt cx="9144000" cy="546120"/>
          </a:xfrm>
        </p:grpSpPr>
        <p:sp>
          <p:nvSpPr>
            <p:cNvPr id="4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 name="PlaceHolder 5"/>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
          <p:cNvGrpSpPr/>
          <p:nvPr/>
        </p:nvGrpSpPr>
        <p:grpSpPr>
          <a:xfrm>
            <a:off x="0" y="0"/>
            <a:ext cx="9144000" cy="6858000"/>
            <a:chOff x="0" y="0"/>
            <a:chExt cx="9144000" cy="6858000"/>
          </a:xfrm>
        </p:grpSpPr>
        <p:sp>
          <p:nvSpPr>
            <p:cNvPr id="9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 name=""/>
            <p:cNvGrpSpPr/>
            <p:nvPr/>
          </p:nvGrpSpPr>
          <p:grpSpPr>
            <a:xfrm>
              <a:off x="0" y="1066680"/>
              <a:ext cx="2867040" cy="3157560"/>
              <a:chOff x="0" y="1066680"/>
              <a:chExt cx="2867040" cy="3157560"/>
            </a:xfrm>
          </p:grpSpPr>
          <p:sp>
            <p:nvSpPr>
              <p:cNvPr id="9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5" name="PlaceHolder 1"/>
          <p:cNvSpPr>
            <a:spLocks noGrp="1"/>
          </p:cNvSpPr>
          <p:nvPr>
            <p:ph type="dt" idx="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06" name="PlaceHolder 2"/>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07" name="PlaceHolder 3"/>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8BF3F-EDF8-4429-943E-635FA22B93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0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E9C41-0399-4646-9E6C-B99B8856B3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Software Testing – 3</a:t>
            </a:r>
            <a:endParaRPr b="0" lang="en-US" sz="5000" spc="-1" strike="noStrike">
              <a:solidFill>
                <a:srgbClr val="000000"/>
              </a:solidFill>
              <a:latin typeface="Arial"/>
            </a:endParaRPr>
          </a:p>
        </p:txBody>
      </p:sp>
      <p:sp>
        <p:nvSpPr>
          <p:cNvPr id="154" name="PlaceHolder 2"/>
          <p:cNvSpPr>
            <a:spLocks noGrp="1"/>
          </p:cNvSpPr>
          <p:nvPr>
            <p:ph type="subTitle"/>
          </p:nvPr>
        </p:nvSpPr>
        <p:spPr>
          <a:xfrm>
            <a:off x="1182600" y="3779640"/>
            <a:ext cx="6778800" cy="1655640"/>
          </a:xfrm>
          <a:prstGeom prst="rect">
            <a:avLst/>
          </a:prstGeom>
          <a:noFill/>
          <a:ln w="0">
            <a:noFill/>
          </a:ln>
        </p:spPr>
        <p:txBody>
          <a:bodyPr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ecture # 25</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now focus our attention to the discussion, we were having at the very end of the last lecture, i.e., test case design</a:t>
            </a:r>
            <a:endParaRPr b="0" lang="en-US" sz="3200" spc="-1" strike="noStrike">
              <a:solidFill>
                <a:srgbClr val="000000"/>
              </a:solidFill>
              <a:latin typeface="Times New Roman"/>
            </a:endParaRPr>
          </a:p>
        </p:txBody>
      </p:sp>
      <p:sp>
        <p:nvSpPr>
          <p:cNvPr id="18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ED41C-3C6F-4774-8499-C913272E52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Case Design - 1</a:t>
            </a:r>
            <a:endParaRPr b="0" lang="en-US" sz="4400" spc="-1" strike="noStrike">
              <a:solidFill>
                <a:srgbClr val="000000"/>
              </a:solidFill>
              <a:latin typeface="Times New Roman"/>
            </a:endParaRPr>
          </a:p>
        </p:txBody>
      </p:sp>
      <p:sp>
        <p:nvSpPr>
          <p:cNvPr id="18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engineered product can be tested in one of two way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ing the specified function that a product has been designed to perfor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ing the internal workings of a product</a:t>
            </a:r>
            <a:endParaRPr b="0" lang="en-US" sz="2800" spc="-1" strike="noStrike">
              <a:solidFill>
                <a:srgbClr val="000000"/>
              </a:solidFill>
              <a:latin typeface="Times New Roman"/>
            </a:endParaRPr>
          </a:p>
        </p:txBody>
      </p:sp>
      <p:sp>
        <p:nvSpPr>
          <p:cNvPr id="1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4DCFC-913F-462D-88F7-E623887BEF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Case Design - 2</a:t>
            </a:r>
            <a:endParaRPr b="0" lang="en-US" sz="4400" spc="-1" strike="noStrike">
              <a:solidFill>
                <a:srgbClr val="000000"/>
              </a:solidFill>
              <a:latin typeface="Times New Roman"/>
            </a:endParaRPr>
          </a:p>
        </p:txBody>
      </p:sp>
      <p:sp>
        <p:nvSpPr>
          <p:cNvPr id="186" name=""/>
          <p:cNvSpPr txBox="1"/>
          <p:nvPr/>
        </p:nvSpPr>
        <p:spPr>
          <a:xfrm>
            <a:off x="685800" y="1981080"/>
            <a:ext cx="7772400" cy="4114800"/>
          </a:xfrm>
          <a:prstGeom prst="rect">
            <a:avLst/>
          </a:prstGeom>
          <a:noFill/>
          <a:ln w="0">
            <a:noFill/>
          </a:ln>
        </p:spPr>
        <p:txBody>
          <a:bodyPr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first case, tests can be conducted that demonstrate each function is fully operational while at the same time searching for errors in each function</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second case, tests can be conducted to ensure that internal operations are performed according to the specifications and all internal components have been adequately exercised</a:t>
            </a:r>
            <a:endParaRPr b="0" lang="en-US" sz="3200" spc="-1" strike="noStrike">
              <a:solidFill>
                <a:srgbClr val="000000"/>
              </a:solidFill>
              <a:latin typeface="Times New Roman"/>
            </a:endParaRPr>
          </a:p>
        </p:txBody>
      </p:sp>
      <p:sp>
        <p:nvSpPr>
          <p:cNvPr id="1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AA100-FD04-4734-9561-8505563DF6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Case Design - 3</a:t>
            </a:r>
            <a:endParaRPr b="0" lang="en-US" sz="4400" spc="-1" strike="noStrike">
              <a:solidFill>
                <a:srgbClr val="000000"/>
              </a:solidFill>
              <a:latin typeface="Times New Roman"/>
            </a:endParaRPr>
          </a:p>
        </p:txBody>
      </p:sp>
      <p:sp>
        <p:nvSpPr>
          <p:cNvPr id="18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first case, testing is focused on the external behavior of a software system or its various components, and we cannot see inside the compon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le in the second case, testing is focused on the internal implementation, and we must see inside the component</a:t>
            </a:r>
            <a:endParaRPr b="0" lang="en-US" sz="3200" spc="-1" strike="noStrike">
              <a:solidFill>
                <a:srgbClr val="000000"/>
              </a:solidFill>
              <a:latin typeface="Times New Roman"/>
            </a:endParaRPr>
          </a:p>
        </p:txBody>
      </p:sp>
      <p:sp>
        <p:nvSpPr>
          <p:cNvPr id="1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45FEB-E348-40B8-93B0-A8D6FF23AE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63C58-0FC9-4D74-B021-49F71BAD06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ing Techniques</a:t>
            </a: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ck-box testing (BB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a functional/behavioral test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te-box testing (WB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a structural/glass-box tes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ack-Box Testing - 1</a:t>
            </a:r>
            <a:endParaRPr b="0" lang="en-US" sz="4400" spc="-1" strike="noStrike">
              <a:solidFill>
                <a:srgbClr val="000000"/>
              </a:solidFill>
              <a:latin typeface="Times New Roman"/>
            </a:endParaRPr>
          </a:p>
        </p:txBody>
      </p:sp>
      <p:sp>
        <p:nvSpPr>
          <p:cNvPr id="19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ck-box testing alludes to tests that are conducted at the software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though they are designed to uncover errors, they are also used to demonstrate that software functions are operational, that input is properly accepted and output is correctly produced, and that the integrity of external information is maintained</a:t>
            </a:r>
            <a:endParaRPr b="0" lang="en-US" sz="3200" spc="-1" strike="noStrike">
              <a:solidFill>
                <a:srgbClr val="000000"/>
              </a:solidFill>
              <a:latin typeface="Times New Roman"/>
            </a:endParaRPr>
          </a:p>
        </p:txBody>
      </p:sp>
      <p:sp>
        <p:nvSpPr>
          <p:cNvPr id="19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19778-420A-4F51-BCDD-E2130CE05E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ack-Box Testing - 2</a:t>
            </a:r>
            <a:endParaRPr b="0" lang="en-US" sz="4400" spc="-1" strike="noStrike">
              <a:solidFill>
                <a:srgbClr val="000000"/>
              </a:solidFill>
              <a:latin typeface="Times New Roman"/>
            </a:endParaRPr>
          </a:p>
        </p:txBody>
      </p:sp>
      <p:sp>
        <p:nvSpPr>
          <p:cNvPr id="19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lock-box test examines some fundamental aspect of a system with little regard for the internal logical structure of the software</a:t>
            </a:r>
            <a:endParaRPr b="0" lang="en-US" sz="3200" spc="-1" strike="noStrike">
              <a:solidFill>
                <a:srgbClr val="000000"/>
              </a:solidFill>
              <a:latin typeface="Times New Roman"/>
            </a:endParaRPr>
          </a:p>
        </p:txBody>
      </p:sp>
      <p:sp>
        <p:nvSpPr>
          <p:cNvPr id="19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2D77D-6785-4A54-A864-EE58BFE160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07E21-F5C6-4EBA-A567-42D76DFB78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ack-Box Testing - 3</a:t>
            </a: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ner structure or control flow of the application is not known or viewed as irrelevant for constructing test cases.  The application is tested against external specifications and/or requirements in order to ensure that a  specific set of input parameters will in fact yield the correct set of output val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95E7A-1189-454E-BD59-900BAACF0B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ack-Box Testing - 4</a:t>
            </a: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useful for ensuring that the software more or less is in concordance with the written specifications and written requir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implest form of BBT is to start running the software and make observations in the hope that it is easy to distinguish between expected and unexpected behavi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ack-Box Testing - 5</a:t>
            </a:r>
            <a:endParaRPr b="0" lang="en-US" sz="4400" spc="-1" strike="noStrike">
              <a:solidFill>
                <a:srgbClr val="000000"/>
              </a:solidFill>
              <a:latin typeface="Times New Roman"/>
            </a:endParaRPr>
          </a:p>
        </p:txBody>
      </p:sp>
      <p:sp>
        <p:nvSpPr>
          <p:cNvPr id="2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ad-hoc testing and it is easy to identify some unexpected behavior, like system cras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 repeated executions, we can determine the cause to be related to software and then pass that information to the people responsible for repairs</a:t>
            </a:r>
            <a:endParaRPr b="0" lang="en-US" sz="3200" spc="-1" strike="noStrike">
              <a:solidFill>
                <a:srgbClr val="000000"/>
              </a:solidFill>
              <a:latin typeface="Times New Roman"/>
            </a:endParaRPr>
          </a:p>
        </p:txBody>
      </p:sp>
      <p:sp>
        <p:nvSpPr>
          <p:cNvPr id="20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1BB9F-EF82-4A5E-9CE6-D41A95B0B1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ap and Today’s Lecture</a:t>
            </a:r>
            <a:endParaRPr b="0" lang="en-US" sz="4400" spc="-1" strike="noStrike">
              <a:solidFill>
                <a:srgbClr val="000000"/>
              </a:solidFill>
              <a:latin typeface="Times New Roman"/>
            </a:endParaRPr>
          </a:p>
        </p:txBody>
      </p:sp>
      <p:sp>
        <p:nvSpPr>
          <p:cNvPr id="156"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ended our last lecture on the design of test case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a very interesting and vast topic and requires through investigation, and we’ll start a discussion on this topic in a little while, today</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before that, let’s look at broad categories of software testing</a:t>
            </a:r>
            <a:endParaRPr b="0" lang="en-US" sz="3200" spc="-1" strike="noStrike">
              <a:solidFill>
                <a:srgbClr val="000000"/>
              </a:solidFill>
              <a:latin typeface="Times New Roman"/>
            </a:endParaRPr>
          </a:p>
        </p:txBody>
      </p:sp>
      <p:sp>
        <p:nvSpPr>
          <p:cNvPr id="1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0F469-996D-47CF-8FA6-9213111440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F3AE5-34DC-4D9D-AE5B-91D13C90DB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ack-Box Testing Approaches</a:t>
            </a:r>
            <a:endParaRPr b="0" lang="en-US" sz="4400" spc="-1" strike="noStrike">
              <a:solidFill>
                <a:srgbClr val="000000"/>
              </a:solidFill>
              <a:latin typeface="Times New Roman"/>
            </a:endParaRPr>
          </a:p>
        </p:txBody>
      </p:sp>
      <p:sp>
        <p:nvSpPr>
          <p:cNvPr id="21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testing of full applic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function testing</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b testing</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bility testing</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acceptance testing</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eld (Beta) testing</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n-room statistical tes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ite-Box Testing - 1</a:t>
            </a:r>
            <a:endParaRPr b="0" lang="en-US" sz="4400" spc="-1" strike="noStrike">
              <a:solidFill>
                <a:srgbClr val="000000"/>
              </a:solidFill>
              <a:latin typeface="Times New Roman"/>
            </a:endParaRPr>
          </a:p>
        </p:txBody>
      </p:sp>
      <p:sp>
        <p:nvSpPr>
          <p:cNvPr id="213" name=""/>
          <p:cNvSpPr txBox="1"/>
          <p:nvPr/>
        </p:nvSpPr>
        <p:spPr>
          <a:xfrm>
            <a:off x="685800" y="1981080"/>
            <a:ext cx="7772400" cy="4114800"/>
          </a:xfrm>
          <a:prstGeom prst="rect">
            <a:avLst/>
          </a:prstGeom>
          <a:noFill/>
          <a:ln w="0">
            <a:noFill/>
          </a:ln>
        </p:spPr>
        <p:txBody>
          <a:bodyPr anchor="t">
            <a:normAutofit fontScale="87000"/>
          </a:bodyPr>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te-box testing of software is predicated on close examination of procedural detail</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al paths through the software are tested by providing test cases that exercise specific sets of conditions and/or loops</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tus of the programs” may be examined at various points to determine if the expected/asserted status corresponds to the actual status</a:t>
            </a:r>
            <a:endParaRPr b="0" lang="en-US" sz="3200" spc="-1" strike="noStrike">
              <a:solidFill>
                <a:srgbClr val="000000"/>
              </a:solidFill>
              <a:latin typeface="Times New Roman"/>
            </a:endParaRPr>
          </a:p>
        </p:txBody>
      </p:sp>
      <p:sp>
        <p:nvSpPr>
          <p:cNvPr id="21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2A46D-5612-4C94-A5CA-4308503FE8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D871E-DC6C-47AD-844F-769B42C640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ite-Box Testing - 2</a:t>
            </a:r>
            <a:endParaRPr b="0" lang="en-US" sz="4400" spc="-1" strike="noStrike">
              <a:solidFill>
                <a:srgbClr val="000000"/>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st developer is privy to inner structure of the application and knows the control flow through the application, or at least knows the control if the software works correc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useful for ensuring that all or at least most paths through the applications have been executed in the course of tes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ite-Box Testing - 3</a:t>
            </a:r>
            <a:endParaRPr b="0" lang="en-US" sz="4400" spc="-1" strike="noStrike">
              <a:solidFill>
                <a:srgbClr val="000000"/>
              </a:solidFill>
              <a:latin typeface="Times New Roman"/>
            </a:endParaRPr>
          </a:p>
        </p:txBody>
      </p:sp>
      <p:sp>
        <p:nvSpPr>
          <p:cNvPr id="219" name=""/>
          <p:cNvSpPr txBox="1"/>
          <p:nvPr/>
        </p:nvSpPr>
        <p:spPr>
          <a:xfrm>
            <a:off x="685800" y="1981080"/>
            <a:ext cx="7772400" cy="4114800"/>
          </a:xfrm>
          <a:prstGeom prst="rect">
            <a:avLst/>
          </a:prstGeom>
          <a:noFill/>
          <a:ln w="0">
            <a:noFill/>
          </a:ln>
        </p:spPr>
        <p:txBody>
          <a:bodyPr anchor="t">
            <a:normAutofit fontScale="88000"/>
          </a:bodyPr>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white-box testing methods, software engineers can derive test cases that</a:t>
            </a:r>
            <a:endParaRPr b="0" lang="en-US" sz="32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uarantee that all independent paths within a module have been exercised at least once</a:t>
            </a:r>
            <a:endParaRPr b="0" lang="en-US" sz="28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rcise all logical decisions on their true and false sides</a:t>
            </a:r>
            <a:endParaRPr b="0" lang="en-US" sz="28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e all loops at their boundaries and within their operational bounds</a:t>
            </a:r>
            <a:endParaRPr b="0" lang="en-US" sz="28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rcise internal data structures to ensure their validity</a:t>
            </a:r>
            <a:endParaRPr b="0" lang="en-US" sz="2800" spc="-1" strike="noStrike">
              <a:solidFill>
                <a:srgbClr val="000000"/>
              </a:solidFill>
              <a:latin typeface="Times New Roman"/>
            </a:endParaRPr>
          </a:p>
        </p:txBody>
      </p:sp>
      <p:sp>
        <p:nvSpPr>
          <p:cNvPr id="2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37E52-8623-4F5E-9928-69FAD8F3DA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ite-Box Testing - 4</a:t>
            </a:r>
            <a:endParaRPr b="0" lang="en-US" sz="4400" spc="-1" strike="noStrike">
              <a:solidFill>
                <a:srgbClr val="000000"/>
              </a:solidFill>
              <a:latin typeface="Times New Roman"/>
            </a:endParaRPr>
          </a:p>
        </p:txBody>
      </p:sp>
      <p:sp>
        <p:nvSpPr>
          <p:cNvPr id="22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implest form of WBT is statement coverage testing through the use of various debugging tools, or debuggers, which help us in tracing through program execu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doing so, the tester can see if a specific statement has been executed, and if the result or behavior is expected</a:t>
            </a:r>
            <a:endParaRPr b="0" lang="en-US" sz="3200" spc="-1" strike="noStrike">
              <a:solidFill>
                <a:srgbClr val="000000"/>
              </a:solidFill>
              <a:latin typeface="Times New Roman"/>
            </a:endParaRPr>
          </a:p>
        </p:txBody>
      </p:sp>
      <p:sp>
        <p:nvSpPr>
          <p:cNvPr id="2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C5970-4344-4D21-9B3D-CA3F983113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ite-Box Testing - 5</a:t>
            </a:r>
            <a:endParaRPr b="0" lang="en-US" sz="4400" spc="-1" strike="noStrike">
              <a:solidFill>
                <a:srgbClr val="000000"/>
              </a:solidFill>
              <a:latin typeface="Times New Roman"/>
            </a:endParaRPr>
          </a:p>
        </p:txBody>
      </p:sp>
      <p:sp>
        <p:nvSpPr>
          <p:cNvPr id="225" name=""/>
          <p:cNvSpPr txBox="1"/>
          <p:nvPr/>
        </p:nvSpPr>
        <p:spPr>
          <a:xfrm>
            <a:off x="685800" y="1981080"/>
            <a:ext cx="7772400" cy="4114800"/>
          </a:xfrm>
          <a:prstGeom prst="rect">
            <a:avLst/>
          </a:prstGeom>
          <a:noFill/>
          <a:ln w="0">
            <a:noFill/>
          </a:ln>
        </p:spPr>
        <p:txBody>
          <a:bodyPr anchor="t">
            <a:normAutofit fontScale="87000"/>
          </a:bodyPr>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of the advantages is that once a problem is detected, it is also located</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problems of omission or design problems cannot be easily detected through white-box testing, because only what is present in the code is tested</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ther important point is that the tester needs to be very familiar with the code under testing to trace through it executions</a:t>
            </a:r>
            <a:endParaRPr b="0" lang="en-US" sz="3200" spc="-1" strike="noStrike">
              <a:solidFill>
                <a:srgbClr val="000000"/>
              </a:solidFill>
              <a:latin typeface="Times New Roman"/>
            </a:endParaRPr>
          </a:p>
        </p:txBody>
      </p:sp>
      <p:sp>
        <p:nvSpPr>
          <p:cNvPr id="22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EE9B4-1EB8-4F7F-9BBE-92D5FCB120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ite-Box Testing - 6</a:t>
            </a:r>
            <a:endParaRPr b="0" lang="en-US" sz="4400" spc="-1" strike="noStrike">
              <a:solidFill>
                <a:srgbClr val="000000"/>
              </a:solidFill>
              <a:latin typeface="Times New Roman"/>
            </a:endParaRPr>
          </a:p>
        </p:txBody>
      </p:sp>
      <p:sp>
        <p:nvSpPr>
          <p:cNvPr id="22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fore, typically white-box testing is performed by the programmers themselv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l have some discussion on this topic, that is who is most productive for which kind of testing at a later stage in this course</a:t>
            </a:r>
            <a:endParaRPr b="0" lang="en-US" sz="3200" spc="-1" strike="noStrike">
              <a:solidFill>
                <a:srgbClr val="000000"/>
              </a:solidFill>
              <a:latin typeface="Times New Roman"/>
            </a:endParaRPr>
          </a:p>
        </p:txBody>
      </p:sp>
      <p:sp>
        <p:nvSpPr>
          <p:cNvPr id="2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4E049-C353-4CA7-A275-0584A65D89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2D602-D96C-473B-822A-85E5E3E981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ite-Box Testing Approaches</a:t>
            </a: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routine testing</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t testing</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al protection testing</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ess or capacity testing</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ormance testing</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testing</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ear 2000 tes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AE01B-CBD2-47E6-905A-6C4A8573F7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xed Testing Approaches</a:t>
            </a: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ependent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ression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ion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tform tes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ng BBT with WBT</a:t>
            </a:r>
            <a:endParaRPr b="0" lang="en-US" sz="4400" spc="-1" strike="noStrike">
              <a:solidFill>
                <a:srgbClr val="000000"/>
              </a:solidFill>
              <a:latin typeface="Times New Roman"/>
            </a:endParaRPr>
          </a:p>
        </p:txBody>
      </p:sp>
      <p:sp>
        <p:nvSpPr>
          <p:cNvPr id="23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the perspective, which primarily distinguishes black-box testing from white-box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BBT and WBT can be compared using other criteria als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B4C7B-05CC-41AC-B70C-17EB0282CB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AFD73-51F3-43DE-9CA0-FE808D46D2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 Categories of Testing</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ized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ing that involves users or cli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ng BBT with WBT with Perspective</a:t>
            </a:r>
            <a:endParaRPr b="0" lang="en-US" sz="4400" spc="-1" strike="noStrike">
              <a:solidFill>
                <a:srgbClr val="000000"/>
              </a:solidFill>
              <a:latin typeface="Times New Roman"/>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BT view the objects of testing as a black-box while focusing on testing the input-output relations or external functional behavior; while WBT views the objects as a glass-box where internal implementation details are visible and tested</a:t>
            </a:r>
            <a:endParaRPr b="0" lang="en-US" sz="3200" spc="-1" strike="noStrike">
              <a:solidFill>
                <a:srgbClr val="000000"/>
              </a:solidFill>
              <a:latin typeface="Times New Roman"/>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AA753-9CEF-416A-AF91-4B75D3CD8D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ng BBT with WBT with Objects</a:t>
            </a:r>
            <a:endParaRPr b="0" lang="en-US" sz="4400" spc="-1" strike="noStrike">
              <a:solidFill>
                <a:srgbClr val="000000"/>
              </a:solidFill>
              <a:latin typeface="Times New Roman"/>
            </a:endParaRPr>
          </a:p>
        </p:txBody>
      </p:sp>
      <p:sp>
        <p:nvSpPr>
          <p:cNvPr id="24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though the objects tested may overlap occasionally, WBT is generally used to test small objects, such as small software products or small units of large software products; while BBT is generally more suitable for large software systems or substantial parts of them as a whole</a:t>
            </a:r>
            <a:endParaRPr b="0" lang="en-US" sz="3200" spc="-1" strike="noStrike">
              <a:solidFill>
                <a:srgbClr val="000000"/>
              </a:solidFill>
              <a:latin typeface="Times New Roman"/>
            </a:endParaRPr>
          </a:p>
        </p:txBody>
      </p:sp>
      <p:sp>
        <p:nvSpPr>
          <p:cNvPr id="2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F0D12-501D-40E5-A112-81AA4ADB47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ng BBT with WBT with Timeline</a:t>
            </a:r>
            <a:endParaRPr b="0" lang="en-US" sz="4400" spc="-1" strike="noStrike">
              <a:solidFill>
                <a:srgbClr val="000000"/>
              </a:solidFill>
              <a:latin typeface="Times New Roman"/>
            </a:endParaRPr>
          </a:p>
        </p:txBody>
      </p:sp>
      <p:sp>
        <p:nvSpPr>
          <p:cNvPr id="24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BT is used more in early sub-phases of testing for large software systems, such as unit and component testing; while BBT is used more in late sub-phases, such as system and acceptance testing</a:t>
            </a:r>
            <a:endParaRPr b="0" lang="en-US" sz="3200" spc="-1" strike="noStrike">
              <a:solidFill>
                <a:srgbClr val="000000"/>
              </a:solidFill>
              <a:latin typeface="Times New Roman"/>
            </a:endParaRPr>
          </a:p>
        </p:txBody>
      </p:sp>
      <p:sp>
        <p:nvSpPr>
          <p:cNvPr id="24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0F158-1881-44CA-96A7-9B4F0C6B06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ng BBT with WBT with Defect Focus - 1</a:t>
            </a:r>
            <a:endParaRPr b="0" lang="en-US" sz="4400" spc="-1" strike="noStrike">
              <a:solidFill>
                <a:srgbClr val="000000"/>
              </a:solidFill>
              <a:latin typeface="Times New Roman"/>
            </a:endParaRPr>
          </a:p>
        </p:txBody>
      </p:sp>
      <p:sp>
        <p:nvSpPr>
          <p:cNvPr id="24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BT, failures related to specific external functions can be observed, leading to corresponding faults being detected and removed. The emphasis is on reducing the chances if encountering functional problems by tagret customers</a:t>
            </a:r>
            <a:endParaRPr b="0" lang="en-US" sz="3200" spc="-1" strike="noStrike">
              <a:solidFill>
                <a:srgbClr val="000000"/>
              </a:solidFill>
              <a:latin typeface="Times New Roman"/>
            </a:endParaRPr>
          </a:p>
        </p:txBody>
      </p:sp>
      <p:sp>
        <p:nvSpPr>
          <p:cNvPr id="25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10EFC-AD59-4A56-915F-0030FB4439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ng BBT with WBT with Defect Focus - 2</a:t>
            </a:r>
            <a:endParaRPr b="0" lang="en-US" sz="4400" spc="-1" strike="noStrike">
              <a:solidFill>
                <a:srgbClr val="000000"/>
              </a:solidFill>
              <a:latin typeface="Times New Roman"/>
            </a:endParaRPr>
          </a:p>
        </p:txBody>
      </p:sp>
      <p:sp>
        <p:nvSpPr>
          <p:cNvPr id="25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WBT, failures related to internal implementation can be observed, leading to corresponding faults being detected and removed directly. The emphasis is on reducing internal faults so that there is less chance for failures later on no matter what kind of application environment the software is subjected to</a:t>
            </a:r>
            <a:endParaRPr b="0" lang="en-US" sz="3200" spc="-1" strike="noStrike">
              <a:solidFill>
                <a:srgbClr val="000000"/>
              </a:solidFill>
              <a:latin typeface="Times New Roman"/>
            </a:endParaRPr>
          </a:p>
        </p:txBody>
      </p:sp>
      <p:sp>
        <p:nvSpPr>
          <p:cNvPr id="2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5D230-A965-40E3-9E75-CF2008BCEA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ng BBT with WBT with Defect Detection &amp; Fixing - 1</a:t>
            </a:r>
            <a:endParaRPr b="0" lang="en-US" sz="4400" spc="-1" strike="noStrike">
              <a:solidFill>
                <a:srgbClr val="000000"/>
              </a:solidFill>
              <a:latin typeface="Times New Roman"/>
            </a:endParaRPr>
          </a:p>
        </p:txBody>
      </p:sp>
      <p:sp>
        <p:nvSpPr>
          <p:cNvPr id="2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ects detected through WBT are easier to fix than those through BBT because of the direct connection between the observed failures and program units and implementation details in WBT. However, WBT may miss certain type of defects, such as omission and design problems, which could be detected by BBT</a:t>
            </a:r>
            <a:endParaRPr b="0" lang="en-US" sz="3200" spc="-1" strike="noStrike">
              <a:solidFill>
                <a:srgbClr val="000000"/>
              </a:solidFill>
              <a:latin typeface="Times New Roman"/>
            </a:endParaRPr>
          </a:p>
        </p:txBody>
      </p:sp>
      <p:sp>
        <p:nvSpPr>
          <p:cNvPr id="2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49796-074D-4E80-B23E-3AD8D713A7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ng BBT with WBT with Defect Detection &amp; Fixing - 2</a:t>
            </a:r>
            <a:endParaRPr b="0" lang="en-US" sz="4400" spc="-1" strike="noStrike">
              <a:solidFill>
                <a:srgbClr val="000000"/>
              </a:solidFill>
              <a:latin typeface="Times New Roman"/>
            </a:endParaRPr>
          </a:p>
        </p:txBody>
      </p:sp>
      <p:sp>
        <p:nvSpPr>
          <p:cNvPr id="25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general, BBT is effective in detecting and fixing problems of interfaces and interactions, while WBT is effective for problems localized within a small unit</a:t>
            </a:r>
            <a:endParaRPr b="0" lang="en-US" sz="3200" spc="-1" strike="noStrike">
              <a:solidFill>
                <a:srgbClr val="000000"/>
              </a:solidFill>
              <a:latin typeface="Times New Roman"/>
            </a:endParaRPr>
          </a:p>
        </p:txBody>
      </p:sp>
      <p:sp>
        <p:nvSpPr>
          <p:cNvPr id="25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931C9-E678-4B6E-AE57-623F069230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ng BBT with WBT with Techniques</a:t>
            </a:r>
            <a:endParaRPr b="0" lang="en-US" sz="4400" spc="-1" strike="noStrike">
              <a:solidFill>
                <a:srgbClr val="000000"/>
              </a:solidFill>
              <a:latin typeface="Times New Roman"/>
            </a:endParaRPr>
          </a:p>
        </p:txBody>
      </p:sp>
      <p:sp>
        <p:nvSpPr>
          <p:cNvPr id="261" name=""/>
          <p:cNvSpPr txBox="1"/>
          <p:nvPr/>
        </p:nvSpPr>
        <p:spPr>
          <a:xfrm>
            <a:off x="685800" y="1981080"/>
            <a:ext cx="7772400" cy="4114800"/>
          </a:xfrm>
          <a:prstGeom prst="rect">
            <a:avLst/>
          </a:prstGeom>
          <a:noFill/>
          <a:ln w="0">
            <a:noFill/>
          </a:ln>
        </p:spPr>
        <p:txBody>
          <a:bodyPr anchor="t">
            <a:normAutofit fontScale="91000"/>
          </a:bodyPr>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ous techniques can be used to build models and generate test cases to perform systematic BBT, and others can be used for WBT, with some of the same techniques being able to be used for both WBT and BBT. A specific technique is a BBT one if external functions are modeled; while the same technique can be a WBT one if internal implementations are modeled</a:t>
            </a:r>
            <a:endParaRPr b="0" lang="en-US" sz="3200" spc="-1" strike="noStrike">
              <a:solidFill>
                <a:srgbClr val="000000"/>
              </a:solidFill>
              <a:latin typeface="Times New Roman"/>
            </a:endParaRPr>
          </a:p>
        </p:txBody>
      </p:sp>
      <p:sp>
        <p:nvSpPr>
          <p:cNvPr id="26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5D187-2790-4D34-ACEF-B8B6EC35AB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ng BBT with WBT with Tester</a:t>
            </a:r>
            <a:endParaRPr b="0" lang="en-US" sz="4400" spc="-1" strike="noStrike">
              <a:solidFill>
                <a:srgbClr val="000000"/>
              </a:solidFill>
              <a:latin typeface="Times New Roman"/>
            </a:endParaRPr>
          </a:p>
        </p:txBody>
      </p:sp>
      <p:sp>
        <p:nvSpPr>
          <p:cNvPr id="26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BT is typically performed by dedicated professional testers, and could also be performed by third-party personnel in a setting of IV&amp;V (independent verification and validation); while WBT is often performed by developers themselves</a:t>
            </a:r>
            <a:endParaRPr b="0" lang="en-US" sz="3200" spc="-1" strike="noStrike">
              <a:solidFill>
                <a:srgbClr val="000000"/>
              </a:solidFill>
              <a:latin typeface="Times New Roman"/>
            </a:endParaRPr>
          </a:p>
        </p:txBody>
      </p:sp>
      <p:sp>
        <p:nvSpPr>
          <p:cNvPr id="2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E0D6B-7D6E-496D-9C9A-51333696B7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267" name=""/>
          <p:cNvSpPr txBox="1"/>
          <p:nvPr/>
        </p:nvSpPr>
        <p:spPr>
          <a:xfrm>
            <a:off x="685800" y="1981080"/>
            <a:ext cx="7772400" cy="4114800"/>
          </a:xfrm>
          <a:prstGeom prst="rect">
            <a:avLst/>
          </a:prstGeom>
          <a:noFill/>
          <a:ln w="0">
            <a:noFill/>
          </a:ln>
        </p:spPr>
        <p:txBody>
          <a:bodyPr anchor="t">
            <a:normAutofit fontScale="96000"/>
          </a:bodyPr>
          <a:p>
            <a:pPr marL="329040" indent="-3290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oftware Engineering: A Practitioner’s Approach 5</a:t>
            </a:r>
            <a:r>
              <a:rPr b="0" lang="en-US" sz="3000" spc="-1" strike="noStrike" baseline="30000">
                <a:solidFill>
                  <a:srgbClr val="000000"/>
                </a:solidFill>
                <a:latin typeface="Times New Roman"/>
              </a:rPr>
              <a:t>th</a:t>
            </a:r>
            <a:r>
              <a:rPr b="0" lang="en-US" sz="3000" spc="-1" strike="noStrike">
                <a:solidFill>
                  <a:srgbClr val="000000"/>
                </a:solidFill>
                <a:latin typeface="Times New Roman"/>
              </a:rPr>
              <a:t> Edition by Roger S. Pressman (Ch 17.2)</a:t>
            </a:r>
            <a:endParaRPr b="0" lang="en-US" sz="3000" spc="-1" strike="noStrike">
              <a:solidFill>
                <a:srgbClr val="000000"/>
              </a:solidFill>
              <a:latin typeface="Times New Roman"/>
            </a:endParaRPr>
          </a:p>
          <a:p>
            <a:pPr marL="329040" indent="-3290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oftware Quality: Analysis and Guidelines for Success by Capers Jones</a:t>
            </a:r>
            <a:endParaRPr b="0" lang="en-US" sz="3000" spc="-1" strike="noStrike">
              <a:solidFill>
                <a:srgbClr val="000000"/>
              </a:solidFill>
              <a:latin typeface="Times New Roman"/>
            </a:endParaRPr>
          </a:p>
          <a:p>
            <a:pPr marL="329040" indent="-3290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oftware Quality Engineering: Testing, Quality Assurance, and Quantifiable Improvement by Jeff Tian, IEEE Computer Society, 2005 (Chapter 6.3)</a:t>
            </a:r>
            <a:endParaRPr b="0" lang="en-US" sz="30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5AE2D-4D2B-4C46-8BE5-D018EA897E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DA9DF-384B-4C05-AA1F-7F983A76A6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Forms of Testing</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rned with almost any kind of software and seek to eliminate common kinds of bugs such as branching errors, looping errors, incorrect outputs, and the lik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EBF69-3FBC-444E-91E1-D4CC0A1D74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of General Forms of Testing</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routine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t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testing of full appl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function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ression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ion tes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DAC62-5AEB-4CF8-80AD-AD90F64A80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alized Forms of Testing</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narrow in focus and seek specific kinds of errors such as problems that only occur under full load, or problems that might slow down perform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5F8ED-535C-4C90-83D1-74F86D161F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of Specialized Forms of Testing</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al protection testing</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ess or capacity testing</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ormance testing</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testing</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tform testing</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ear 2000 testing was also an example of thi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ependent tes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E029A-2FF1-4EF7-956E-762B6997DB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ms of Testing Involving Users</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rms of testing involving users are aimed at usability problems and ensuring that all requirements have been in fact implemen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76680-57DF-478D-B42A-CDCAE1ECAB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of Forms of Testing Involving Users</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acceptance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eld (Beta)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bility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b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n-room statistical tes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30T19:05:19Z</dcterms:created>
  <dc:creator>Ghulam Ahmad Farrukh</dc:creator>
  <dc:description/>
  <dc:language>en-US</dc:language>
  <cp:lastModifiedBy>ahmadmohsin</cp:lastModifiedBy>
  <dcterms:modified xsi:type="dcterms:W3CDTF">2009-05-30T04:49:24Z</dcterms:modified>
  <cp:revision>208</cp:revision>
  <dc:subject/>
  <dc:title>Software Quality Assurance and Testing</dc:title>
</cp:coreProperties>
</file>